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E29-E294-4284-92F2-877E1E1E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B2D-E54B-4797-A498-27F815B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AD7-CC34-4E6F-BD44-603149AC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65E-1BF5-419C-9BB9-4673D84B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88E-18F0-461D-BDBB-8C32DCCA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8543-CED3-4034-BF1C-E9C7FAD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59A-97A0-4F7E-A67C-D1B570EE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6E2-F03B-4EA9-A692-98DD26F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371C-78AD-4149-8070-2AACE53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2979-7574-40E0-873C-20E8C83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F589-8496-4F93-AE53-AB5743C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32B-C327-4FDE-9B75-9453F740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2A5-86CF-4E8B-B5C2-6A52173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0A9-3EE3-4FAA-8502-9640309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934A-1FF9-4E15-A4D8-99E31EE8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F126-51DE-44A3-A710-F5F7403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76EF-81EF-477C-B05F-A618CB85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B9CA-AAE3-418F-8E69-7E915A68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7628-A69F-4606-BB31-3BE098B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F09F-520F-40DA-8886-CFBCF362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7B15-0B6B-46F1-8104-34EC5C6F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7998-489F-4609-9472-CD8FA47D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16-A1EE-484A-88D2-81F56257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A061-3610-4CDB-9A5B-EA9B2AE8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0563-9134-4C64-85F4-9D23ABAB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D344-3D2E-40AE-86EA-B0A6E0E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3BBE-1F26-4C03-A11E-EF3E7A0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D090-D1BC-40FC-989B-C5E9A7C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C5B8-6E52-416B-A1A4-81259D04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C04E-1DED-487C-B137-CFFA8C3E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B67D-4D0C-40E5-B474-10D294A2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EAE0-21FC-42C5-84C2-5437A092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6AEF-D50A-4533-8FD8-F3F807C8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511-1891-47C9-A24A-90B3CD4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5E72-79AF-4B1D-AC76-7355B08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EFE5-6720-4B5A-ADEF-F182D8B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CD28-6689-4EBD-B7E0-0D5A2E53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FC34-14EE-4E7B-B03B-81E5DBC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882A-D76D-450A-A9D0-3E00AFD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76D0-3DCF-4D8F-9B55-8BF94947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BBC3-CBBD-41C6-A58D-5434F1E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A8EE-34DB-49D1-B517-CB4584DC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0D4C-32B7-4F67-AC62-0B4166FF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F13E-ABB7-4914-B2BB-2A2EE3C6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6FF-DF4C-4B25-9F74-6D0FCCB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26AE-01F7-4818-B1FD-00E44C1E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30DA-5B15-4DEC-8934-4368A5C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BFC1-07BC-43B5-9F2C-13A5CA3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7C40-0A21-4508-842E-FDCC25B4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1026-CC31-4882-A4F3-EB70652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6D3F-9E57-497F-A18A-18BA7EF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89D4-4109-442C-A5A8-8649EC5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9211-24F4-4CAD-B18B-B9F6A93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6A5BA-34B3-41D2-AFFF-88FF9520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1A69-CCED-41B0-8E0B-CADB1BA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42B-FAA7-4DD4-8B9B-10471C1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834F-CC06-466A-BEF9-57900FA6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AB3-C702-4A1E-84F4-AFE54B6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B37-9A42-45FC-82A5-31B98A2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BB8-D361-4B5C-9438-5B61E63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67A6-4BBC-4DA8-9D57-765D7248E4C3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6ACE-5DC1-45CE-9B41-B02C2A3734B7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363-08E6-44FD-ACC6-68B188EAFEEC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4A2-6E04-4201-AB8B-725A8A28CA74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325-5D4D-40A7-92CA-6F62A2A133D6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9800" y="953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Impact"/>
              </a:rPr>
              <a:t>Los Apuntes: GUSTAR</a:t>
            </a:r>
            <a:endParaRPr b="0" lang="en-US" sz="6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11" name="Subtitle 2" descr=""/>
          <p:cNvPicPr/>
          <p:nvPr/>
        </p:nvPicPr>
        <p:blipFill>
          <a:blip r:embed="rId1"/>
          <a:stretch/>
        </p:blipFill>
        <p:spPr>
          <a:xfrm>
            <a:off x="469800" y="2889360"/>
            <a:ext cx="47116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Impact"/>
              </a:rPr>
              <a:t>What phrases are used to talk about what people like to do?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65120" y="1981080"/>
          <a:ext cx="6559560" cy="3657600"/>
        </p:xfrm>
        <a:graphic>
          <a:graphicData uri="http://schemas.openxmlformats.org/drawingml/2006/table">
            <a:tbl>
              <a:tblPr/>
              <a:tblGrid>
                <a:gridCol w="3279960"/>
                <a:gridCol w="32796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M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9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No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9db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T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(familiar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O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all (familiar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L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, She, You (formal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Le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all (formal), They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Impact"/>
              </a:rPr>
              <a:t>La Práctica: Un Repaso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like to ru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6086"/>
                </a:solidFill>
                <a:latin typeface="Comic Sans MS"/>
              </a:rPr>
              <a:t>Me gusta corr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(familiar) like to play socc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6086"/>
                </a:solidFill>
                <a:latin typeface="Comic Sans MS"/>
              </a:rPr>
              <a:t>Te gusta jugar al f</a:t>
            </a: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útb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like to eat hamburg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s gusta comer las hamburgues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all (familiar) don’t like to do home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 os gusta hacer la tare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don’t like to wear blue shir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os no les gusta llevar las camisas azu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When talking about </a:t>
            </a:r>
            <a:r>
              <a:rPr b="0" lang="es-ES_tradnl" sz="4000" spc="-1" strike="noStrike">
                <a:solidFill>
                  <a:srgbClr val="000000"/>
                </a:solidFill>
                <a:latin typeface="Impact"/>
              </a:rPr>
              <a:t>things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 that people like, change the form of gustar to match the noun (</a:t>
            </a:r>
            <a:r>
              <a:rPr b="0" lang="es-ES_tradnl" sz="4000" spc="-1" strike="noStrike">
                <a:solidFill>
                  <a:srgbClr val="c00000"/>
                </a:solidFill>
                <a:latin typeface="Impact"/>
              </a:rPr>
              <a:t>singular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 or </a:t>
            </a:r>
            <a:r>
              <a:rPr b="0" lang="es-ES_tradnl" sz="4000" spc="-1" strike="noStrike">
                <a:solidFill>
                  <a:srgbClr val="3f7228"/>
                </a:solidFill>
                <a:latin typeface="Impact"/>
              </a:rPr>
              <a:t>plural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12600" y="2451240"/>
            <a:ext cx="2797200" cy="168264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-231840" y="4584600"/>
            <a:ext cx="267012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2514600" y="2590920"/>
          <a:ext cx="6477120" cy="144756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057400" y="4724280"/>
          <a:ext cx="6934320" cy="152424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  <p:grpSp>
        <p:nvGrpSpPr>
          <p:cNvPr id="221" name="Curved Left Arrow 13"/>
          <p:cNvGrpSpPr/>
          <p:nvPr/>
        </p:nvGrpSpPr>
        <p:grpSpPr>
          <a:xfrm>
            <a:off x="3486240" y="2114640"/>
            <a:ext cx="1530360" cy="420480"/>
            <a:chOff x="3486240" y="2114640"/>
            <a:chExt cx="1530360" cy="420480"/>
          </a:xfrm>
        </p:grpSpPr>
        <p:pic>
          <p:nvPicPr>
            <p:cNvPr id="222" name="Curved Left Arrow 13" descr=""/>
            <p:cNvPicPr/>
            <p:nvPr/>
          </p:nvPicPr>
          <p:blipFill>
            <a:blip r:embed="rId3"/>
            <a:stretch/>
          </p:blipFill>
          <p:spPr>
            <a:xfrm>
              <a:off x="3486240" y="2114640"/>
              <a:ext cx="15303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6200000">
              <a:off x="4068720" y="1569960"/>
              <a:ext cx="38088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Curved Left Arrow 14"/>
          <p:cNvGrpSpPr/>
          <p:nvPr/>
        </p:nvGrpSpPr>
        <p:grpSpPr>
          <a:xfrm>
            <a:off x="3108240" y="4248000"/>
            <a:ext cx="1524240" cy="420840"/>
            <a:chOff x="3108240" y="4248000"/>
            <a:chExt cx="1524240" cy="420840"/>
          </a:xfrm>
        </p:grpSpPr>
        <p:pic>
          <p:nvPicPr>
            <p:cNvPr id="225" name="Curved Left Arrow 14" descr=""/>
            <p:cNvPicPr/>
            <p:nvPr/>
          </p:nvPicPr>
          <p:blipFill>
            <a:blip r:embed="rId4"/>
            <a:stretch/>
          </p:blipFill>
          <p:spPr>
            <a:xfrm>
              <a:off x="3108240" y="4248000"/>
              <a:ext cx="15242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6200000">
              <a:off x="3687480" y="3702960"/>
              <a:ext cx="381240" cy="15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13"/>
          <p:cNvSpPr/>
          <p:nvPr/>
        </p:nvSpPr>
        <p:spPr>
          <a:xfrm>
            <a:off x="5086440" y="136440"/>
            <a:ext cx="1619280" cy="625680"/>
          </a:xfrm>
          <a:prstGeom prst="ellipse">
            <a:avLst/>
          </a:prstGeom>
          <a:gradFill rotWithShape="0">
            <a:gsLst>
              <a:gs pos="0">
                <a:srgbClr val="f1c9c4"/>
              </a:gs>
              <a:gs pos="100000">
                <a:srgbClr val="e43a00"/>
              </a:gs>
            </a:gsLst>
            <a:lin ang="10800000"/>
          </a:gradFill>
          <a:ln w="9360">
            <a:solidFill>
              <a:srgbClr val="b9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Oval 12"/>
          <p:cNvGrpSpPr/>
          <p:nvPr/>
        </p:nvGrpSpPr>
        <p:grpSpPr>
          <a:xfrm>
            <a:off x="2419200" y="3565440"/>
            <a:ext cx="1182960" cy="506520"/>
            <a:chOff x="2419200" y="3565440"/>
            <a:chExt cx="1182960" cy="506520"/>
          </a:xfrm>
        </p:grpSpPr>
        <p:pic>
          <p:nvPicPr>
            <p:cNvPr id="229" name="Oval 12" descr=""/>
            <p:cNvPicPr/>
            <p:nvPr/>
          </p:nvPicPr>
          <p:blipFill>
            <a:blip r:embed="rId1"/>
            <a:stretch/>
          </p:blipFill>
          <p:spPr>
            <a:xfrm>
              <a:off x="2419200" y="3565440"/>
              <a:ext cx="1182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604960" y="3651120"/>
              <a:ext cx="809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Oval 11"/>
          <p:cNvGrpSpPr/>
          <p:nvPr/>
        </p:nvGrpSpPr>
        <p:grpSpPr>
          <a:xfrm>
            <a:off x="1847880" y="2876400"/>
            <a:ext cx="2363760" cy="513000"/>
            <a:chOff x="1847880" y="2876400"/>
            <a:chExt cx="2363760" cy="513000"/>
          </a:xfrm>
        </p:grpSpPr>
        <p:pic>
          <p:nvPicPr>
            <p:cNvPr id="232" name="Oval 11" descr=""/>
            <p:cNvPicPr/>
            <p:nvPr/>
          </p:nvPicPr>
          <p:blipFill>
            <a:blip r:embed="rId2"/>
            <a:stretch/>
          </p:blipFill>
          <p:spPr>
            <a:xfrm>
              <a:off x="1847880" y="2876400"/>
              <a:ext cx="236376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206800" y="2965320"/>
              <a:ext cx="1643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Oval 10"/>
          <p:cNvGrpSpPr/>
          <p:nvPr/>
        </p:nvGrpSpPr>
        <p:grpSpPr>
          <a:xfrm>
            <a:off x="2041560" y="4327560"/>
            <a:ext cx="2017800" cy="641160"/>
            <a:chOff x="2041560" y="4327560"/>
            <a:chExt cx="2017800" cy="641160"/>
          </a:xfrm>
        </p:grpSpPr>
        <p:pic>
          <p:nvPicPr>
            <p:cNvPr id="235" name="Oval 10" descr=""/>
            <p:cNvPicPr/>
            <p:nvPr/>
          </p:nvPicPr>
          <p:blipFill>
            <a:blip r:embed="rId3"/>
            <a:stretch/>
          </p:blipFill>
          <p:spPr>
            <a:xfrm>
              <a:off x="2041560" y="4327560"/>
              <a:ext cx="201780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347920" y="4432320"/>
              <a:ext cx="14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Oval 9"/>
          <p:cNvGrpSpPr/>
          <p:nvPr/>
        </p:nvGrpSpPr>
        <p:grpSpPr>
          <a:xfrm>
            <a:off x="1736640" y="2266920"/>
            <a:ext cx="2017800" cy="512640"/>
            <a:chOff x="1736640" y="2266920"/>
            <a:chExt cx="2017800" cy="512640"/>
          </a:xfrm>
        </p:grpSpPr>
        <p:pic>
          <p:nvPicPr>
            <p:cNvPr id="238" name="Oval 9" descr=""/>
            <p:cNvPicPr/>
            <p:nvPr/>
          </p:nvPicPr>
          <p:blipFill>
            <a:blip r:embed="rId4"/>
            <a:stretch/>
          </p:blipFill>
          <p:spPr>
            <a:xfrm>
              <a:off x="1736640" y="2266920"/>
              <a:ext cx="2017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043000" y="2355840"/>
              <a:ext cx="1400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Look at the examples. Circle the noun and indicate if it is singular or plural.  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41" name="Content Placeholder 2" descr=""/>
          <p:cNvPicPr/>
          <p:nvPr/>
        </p:nvPicPr>
        <p:blipFill>
          <a:blip r:embed="rId5"/>
          <a:stretch/>
        </p:blipFill>
        <p:spPr>
          <a:xfrm>
            <a:off x="152280" y="1268280"/>
            <a:ext cx="9223560" cy="414504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3" descr=""/>
          <p:cNvPicPr/>
          <p:nvPr/>
        </p:nvPicPr>
        <p:blipFill>
          <a:blip r:embed="rId6"/>
          <a:stretch/>
        </p:blipFill>
        <p:spPr>
          <a:xfrm>
            <a:off x="3968640" y="1176480"/>
            <a:ext cx="4876920" cy="107928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4" descr=""/>
          <p:cNvPicPr/>
          <p:nvPr/>
        </p:nvPicPr>
        <p:blipFill>
          <a:blip r:embed="rId7"/>
          <a:stretch/>
        </p:blipFill>
        <p:spPr>
          <a:xfrm>
            <a:off x="139680" y="1176480"/>
            <a:ext cx="2951280" cy="107928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5" descr=""/>
          <p:cNvPicPr/>
          <p:nvPr/>
        </p:nvPicPr>
        <p:blipFill>
          <a:blip r:embed="rId8"/>
          <a:stretch/>
        </p:blipFill>
        <p:spPr>
          <a:xfrm>
            <a:off x="5291280" y="1938240"/>
            <a:ext cx="2487600" cy="107964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9"/>
          <a:stretch/>
        </p:blipFill>
        <p:spPr>
          <a:xfrm>
            <a:off x="5668920" y="2548080"/>
            <a:ext cx="1920960" cy="107928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7" descr=""/>
          <p:cNvPicPr/>
          <p:nvPr/>
        </p:nvPicPr>
        <p:blipFill>
          <a:blip r:embed="rId10"/>
          <a:stretch/>
        </p:blipFill>
        <p:spPr>
          <a:xfrm>
            <a:off x="5278320" y="3084480"/>
            <a:ext cx="248760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8" descr=""/>
          <p:cNvPicPr/>
          <p:nvPr/>
        </p:nvPicPr>
        <p:blipFill>
          <a:blip r:embed="rId11"/>
          <a:stretch/>
        </p:blipFill>
        <p:spPr>
          <a:xfrm>
            <a:off x="5578560" y="3998880"/>
            <a:ext cx="1919160" cy="1079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4"/>
          <p:cNvSpPr/>
          <p:nvPr/>
        </p:nvSpPr>
        <p:spPr>
          <a:xfrm>
            <a:off x="152280" y="541800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How does the verb </a:t>
            </a:r>
            <a:r>
              <a:rPr b="1" i="1" lang="en-US" sz="2400" spc="-1" strike="noStrike">
                <a:solidFill>
                  <a:srgbClr val="3f7228"/>
                </a:solidFill>
                <a:latin typeface="Comic Sans MS"/>
              </a:rPr>
              <a:t>gustar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 change when the noun is plur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Does the form of </a:t>
            </a:r>
            <a:r>
              <a:rPr b="1" i="1" lang="en-US" sz="2400" spc="-1" strike="noStrike">
                <a:solidFill>
                  <a:srgbClr val="3f7228"/>
                </a:solidFill>
                <a:latin typeface="Comic Sans MS"/>
              </a:rPr>
              <a:t>gustar 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match the subject or the nou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66"/>
                </a:solidFill>
                <a:latin typeface="Impact"/>
              </a:rPr>
              <a:t>La Práctica: </a:t>
            </a:r>
            <a:r>
              <a:rPr b="0" lang="es-ES_tradnl" sz="3200" spc="-1" strike="noStrike">
                <a:solidFill>
                  <a:srgbClr val="666666"/>
                </a:solidFill>
                <a:latin typeface="Impact"/>
              </a:rPr>
              <a:t>Fill in the blanks with the correct form of gustar.  </a:t>
            </a:r>
            <a:endParaRPr b="0" lang="en-US" sz="32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07560" y="1950840"/>
            <a:ext cx="75502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mi ____________  el caf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nosotros _______________ las ensalada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ti ____________ la limonad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ella ___________ las clases de matemáticas y españ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vosotros ____________ el arro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2279520" y="1736640"/>
            <a:ext cx="2541600" cy="96372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4" descr=""/>
          <p:cNvPicPr/>
          <p:nvPr/>
        </p:nvPicPr>
        <p:blipFill>
          <a:blip r:embed="rId2"/>
          <a:stretch/>
        </p:blipFill>
        <p:spPr>
          <a:xfrm>
            <a:off x="3103560" y="2577960"/>
            <a:ext cx="2870280" cy="95724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5" descr=""/>
          <p:cNvPicPr/>
          <p:nvPr/>
        </p:nvPicPr>
        <p:blipFill>
          <a:blip r:embed="rId3"/>
          <a:stretch/>
        </p:blipFill>
        <p:spPr>
          <a:xfrm>
            <a:off x="2127240" y="3260880"/>
            <a:ext cx="2401920" cy="9633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6" descr=""/>
          <p:cNvPicPr/>
          <p:nvPr/>
        </p:nvPicPr>
        <p:blipFill>
          <a:blip r:embed="rId4"/>
          <a:stretch/>
        </p:blipFill>
        <p:spPr>
          <a:xfrm>
            <a:off x="2243160" y="4138560"/>
            <a:ext cx="2548080" cy="96372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7" descr=""/>
          <p:cNvPicPr/>
          <p:nvPr/>
        </p:nvPicPr>
        <p:blipFill>
          <a:blip r:embed="rId5"/>
          <a:stretch/>
        </p:blipFill>
        <p:spPr>
          <a:xfrm>
            <a:off x="3041640" y="5430960"/>
            <a:ext cx="2389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66"/>
                </a:solidFill>
                <a:latin typeface="Impact"/>
              </a:rPr>
              <a:t>Más Práctica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360" y="12949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 like (the) desser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Me gustan los postr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We like (the) stea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s gusta el bistec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he likes the green sho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a le gustan los zapatos verd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hey like (the) salad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os les gustan las ensalad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ou (familiar) like the restaura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Te gustan los restaurante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1:36:39Z</dcterms:created>
  <dc:creator>Heather Heffernen</dc:creator>
  <dc:description/>
  <dc:language>en-US</dc:language>
  <cp:lastModifiedBy>Prine, Stephanie</cp:lastModifiedBy>
  <dcterms:modified xsi:type="dcterms:W3CDTF">2012-09-06T17:17:18Z</dcterms:modified>
  <cp:revision>10</cp:revision>
  <dc:subject/>
  <dc:title>Los Apuntes: GUSTAR</dc:title>
</cp:coreProperties>
</file>